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4BE7-793F-48C0-9E29-5FEFFCEF8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C868-699F-4606-8C0F-918E2317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5830-21A6-4FB5-B005-1756910EC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B477-F89C-4507-841B-D18BB1222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11C85-B275-42AA-885E-876B7E297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513A9-5C13-46AE-A80C-79264141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3A816-7554-4406-BD9B-0341FE56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DE3EE-79EF-4E8C-8330-C6764B71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70148-23B9-4074-9270-B267CA10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C9677-647B-4F05-9943-66ECDC30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3C460-C88E-421F-90F4-ED8AC971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5BE6-B49D-4654-BE3F-7FA25127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DABAA-7EB1-4BD6-8719-60664203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E795C-5DF8-499E-A2B4-794A2026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D7727-1AEB-4374-A552-B9FB995A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1103B-EF4B-42CF-9F38-83E4073CC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A65D3A-C2E3-4E1F-B89E-49A8F5EBD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AAE2C-2BE6-463E-817B-3C7F67CD8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30348-3A3B-4FE6-8292-8B2BDD0D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AE30A-9103-4C88-9784-8D260DD3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01419-9629-4A84-94EA-F89FE72B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3E4C2-3BE9-4254-87DF-2E127CF9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9DAE-5729-439F-9B9A-F93168C6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6385A-F5A0-44CC-A2CF-3DAE495D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FCF1D-A2C0-4390-8A8D-780CDA6B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D830D-1761-455C-9375-596082BE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D58A6-6DC4-4F41-94CC-680DF65C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37F6C-A77A-4CF1-AC26-3E11ABCF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F936E-3740-4810-B174-A64025885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7CEA7-EE23-4B32-AC44-1FE608A8D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77C7B5-2F88-48E3-AE8D-FFBE065A0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B262D5-4FD4-44B6-B7A1-0BDC6D90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055908-29F2-4EE3-A255-076302E9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C71B-4D92-4F28-8663-38E9F56D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1B2B92-7ABC-44F7-93CD-8B722E63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3EAAA8-1924-4B05-B742-E6D9E244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179AF1-5F94-48AD-93B8-B3AE3466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475F65-DB4A-4C6E-B59F-FD7F984E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84EE6D-0FD6-4BEA-A980-5010D2B1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5B7208-E0E6-495A-99D8-1F3A25D6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338979-0E97-4FAA-8322-50371397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360AA5-9807-44C1-B7A2-C79A0D9DE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BFFAF2-23E8-43A6-9F9F-2D0F21C52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9F0BD4-486F-4253-A70E-171F50CDA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E608-C0CE-4903-9F41-26A8C26B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25429C-3FDE-457F-A606-65CCBC3B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BA73AF-0EA8-4B7E-B8AD-EB42CDCC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0EEC3E-C722-4361-8523-8D5317A8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6D3657-983A-4CC7-8BA7-7794FC88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1D68CC-FDEC-4862-8FA6-CF9A6229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8CC45E-FF0F-4C4E-81B9-ED932D24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A7EB6D-DD03-4826-AC33-5B360ED5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0F8A40-57CE-4CAC-BB60-BCE7B9BD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869DDC-E073-42B3-B430-96442270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691393-BAAA-409C-A2DD-184F106FB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2E3D-2EFA-487B-898D-724FAFCC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AB7458-EF02-4643-8C8C-2E0EFE8D1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CF3FD8-C5B1-41C6-B9DD-5C1D19DF6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1C894D-7EA5-410A-A511-7ADA154F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29343C-0481-4AF6-99E1-1B675F6A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0B0258-CD43-4E43-8475-8610B51A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8596D8-4D8E-4965-9618-9AE5EB02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106EE1-5982-42FD-849D-F89C1F4F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F842F0-A798-4884-9AF2-AA4E42DC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0A569D-3DB1-41CF-A294-20393E24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605698-D86A-418D-8605-63AABBA9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C3FC-DBCA-44F4-A746-2450CFA3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34F23A-C796-47C0-839F-B44814F1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D1053C-4CE3-4941-8B23-BEA8BC7DE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D90BBA-B808-4636-93E7-ECA2AD076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BDC6-20AC-4B6A-9FE1-8F1C23E6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FBFA-10DE-426E-BA3B-EBFEEA09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70BB-BDF8-4C7C-9D79-3F70200EC090}" type="datetime"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Anderson, L. W. &amp; Krathwohl, D. R. (2001). A taxonomy for learning, teaching, and assessing. New York, NY: Addison Wesley Longma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7E53-B371-45E7-ADC2-8A9964B917BE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Straight Connector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Oval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0A97-6C10-4472-9C8B-F72F827664E1}" type="datetime"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CA11-0671-458E-97C4-A13531DD2C62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Anderson, L. W. &amp; Krathwohl, D. R. (2001). A taxonomy for learning, teaching, and assessing. New York, NY: Addison Wesley Longma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7BAB-C46C-4B48-8CC0-8EB0B9FF4231}" type="datetime"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Anderson, L. W. &amp; Krathwohl, D. R. (2001). A taxonomy for learning, teaching, and assessing. New York, NY: Addison Wesley Longma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0255-8BFD-49ED-A9FA-3BCE66B16C41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Straight Connector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FA18-522E-40BC-82FF-8E4BA0913FED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Anderson, L. W. &amp; Krathwohl, D. R. (2001). A taxonomy for learning, teaching, and assessing. New York, NY: Addison Wesley Longma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B594-796E-4EFA-8BDB-13F7E2D12F3E}" type="datetime"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39C0-7EBC-4AD0-9A39-EBE85A6D4632}" type="datetime"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CA1A-37E9-490B-BBB2-3BFBACA16CED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Anderson, L. W. &amp; Krathwohl, D. R. (2001). A taxonomy for learning, teaching, and assessing. New York, NY: Addison Wesley Longma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9D16-362D-425D-9BA1-455FCB99D8CD}" type="datetime"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784E-8F5B-4E31-A062-424F6744415E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Anderson, L. W. &amp; Krathwohl, D. R. (2001). A taxonomy for learning, teaching, and assessing. New York, NY: Addison Wesley Longma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Debra Wenzel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SD DOE Program Specialist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Title 1" descr=""/>
          <p:cNvPicPr/>
          <p:nvPr/>
        </p:nvPicPr>
        <p:blipFill>
          <a:blip r:embed="rId2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at is worth learning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Abstract level – defines what it means to be an educated person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Concrete level – defines the meaning of the subject matter being taught [p. 7]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s: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79" name="Footer Placeholder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Anderson, L. W. &amp; Krathwohl, D. R. (2001). A taxonomy for learning, teaching, and assessing. New York, NY: Addison Wesley Longman, Inc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0" name="Title 3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at instruction helps students achieve the stated objective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Focus students’ attention on categories and classification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Use examples and nonexamples to help students form the proper categorie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Help students see specific categories in relation to a larger classification system, and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mphasize the relevant and important differences among the categories within the context of the larger system [p. 7-8]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ample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2" name="Footer Placeholder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Anderson, L. W. &amp; Krathwohl, D. R. (2001). A taxonomy for learning, teaching, and assessing. New York, NY: Addison Wesley Longman, Inc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3" name="Title 3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ifferent types of objectives require different approaches to assessmen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What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How do you know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Changes [p. 9]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85" name="Footer Placeholder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Anderson, L. W. &amp; Krathwohl, D. R. (2001). A taxonomy for learning, teaching, and assessing. New York, NY: Addison Wesley Longman, Inc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6" name="Title 3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ncept of Alignmen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Degree of alignment is determined by comparing objectives with assessment, objectives with instruction, and instruction with assessment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axonomy Table provides an opportunity to facilitate comparison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at happens with misalignment? [p. 10]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Footer Placeholder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Anderson, L. W. &amp; Krathwohl, D. R. (2001). A taxonomy for learning, teaching, and assessing. New York, NY: Addison Wesley Longman, Inc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9" name="Title 3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should be clear from the introduction to this chapter that we expect our work to be used in the context of “teachers as curriculum implementers”; that is, teachers are given sets of objectives (e.g., in textbooks or increasingly state- or district-mandated standards) and are expected to deliver instruction that enables a large proportion of students to achieve those standards. The Taxonomy Table should help teachers do this and do it reasonably well. [p. 11]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Footer Placeholder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Anderson, L. W. &amp; Krathwohl, D. R. (2001). A taxonomy for learning, teaching, and assessing. New York, NY: Addison Wesley Longman, Inc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2" name="Title 3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tructure of objectives ~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594720" indent="-2534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Ralph Tyler (1949) – the most useful form for stating objectives is to express them in terms which identify both the kind of </a:t>
            </a:r>
            <a:r>
              <a:rPr b="0" i="1" lang="en-US" sz="2400" spc="-1" strike="noStrike">
                <a:solidFill>
                  <a:srgbClr val="fefac9"/>
                </a:solidFill>
                <a:latin typeface="Constantia"/>
              </a:rPr>
              <a:t>behavior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 to be developed in the student and </a:t>
            </a:r>
            <a:r>
              <a:rPr b="0" i="1" lang="en-US" sz="2400" spc="-1" strike="noStrike">
                <a:solidFill>
                  <a:srgbClr val="fefac9"/>
                </a:solidFill>
                <a:latin typeface="Constantia"/>
              </a:rPr>
              <a:t>content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…in which this behavior is to operat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594720" indent="-2534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RBT view – objective contains a noun and a verb…verb describes the intended </a:t>
            </a:r>
            <a:r>
              <a:rPr b="0" i="1" lang="en-US" sz="2400" spc="-1" strike="noStrike">
                <a:solidFill>
                  <a:srgbClr val="fefac9"/>
                </a:solidFill>
                <a:latin typeface="Constantia"/>
              </a:rPr>
              <a:t>cognitive process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 and the noun generally describes the </a:t>
            </a:r>
            <a:r>
              <a:rPr b="0" i="1" lang="en-US" sz="2400" spc="-1" strike="noStrike">
                <a:solidFill>
                  <a:srgbClr val="fefac9"/>
                </a:solidFill>
                <a:latin typeface="Constantia"/>
              </a:rPr>
              <a:t>knowledge 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he students are expected to acquire or construct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594720" indent="-2534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changed terminology – “cognitive process” replaces “behavior” and “knowledge” replaces “content” [p. 12]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94" name="Footer Placeholder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Anderson, L. W. &amp; Krathwohl, D. R. (2001). A taxonomy for learning, teaching, and assessing. New York, NY: Addison Wesley Longman, Inc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5" name="Title 3" descr=""/>
          <p:cNvPicPr/>
          <p:nvPr/>
        </p:nvPicPr>
        <p:blipFill>
          <a:blip r:embed="rId2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ubject matter content is “historically shared knowledge” that is arrived at through a currently shared consensus within a discipline and is subject to change over ti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ifferentiate the subject matter content of an academic discipline from the materials in which the content is embedded [p. 13]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7" name="Footer Placeholder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Anderson, L. W. &amp; Krathwohl, D. R. (2001). A taxonomy for learning, teaching, and assessing. New York, NY: Addison Wesley Longman, Inc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8" name="Title 3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ior idea of behavior – based on the predominant theory of psychology at that time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owever, the perspective was the 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intended result of instructio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ehaviorism was a means by which desired ends could be achieved. [p. 13]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BT replaced behavior with cognitive proces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0" name="Footer Placeholder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Anderson, L. W. &amp; Krathwohl, D. R. (2001). A taxonomy for learning, teaching, and assessing. New York, NY: Addison Wesley Longman, Inc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1" name="Title 3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5104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List, write, stat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– all verbs that are staples in the previous taxonomy; how do students arrive at their lists; did they remember the lists provided by teacher or textbook; or did they analyze material contained in several books? The lower level listing is 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Remembering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nd the higher order level of listing is 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Analyzing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Whereas – classify, explain, and attribute –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ore specific. 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Classify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means to determine whether something belongs to a category. 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Explain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eans to construct a cause-and-effect model of a system. 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Attribut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means to determine the point of view, bias, values or intent [p. 14]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3" name="Footer Placeholder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Anderson, L. W. &amp; Krathwohl, D. R. (2001). A taxonomy for learning, teaching, and assessing. New York, NY: Addison Wesley Longman, Inc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omparisons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Global objectives –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complex, multifaceted learning outcomes that require substantial time and instruction to accomplish. Broadly stated and encompass a large # of more specific objectiv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Educational objectives –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cus attention on objectives more specific – student behavior and content topic and more general than day-to-day objectiv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structional objectives – focus on teaching and testing for day-to-day [p. 15-16]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6" name="Footer Placeholder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Anderson, L. W. &amp; Krathwohl, D. R. (2001). A taxonomy for learning, teaching, and assessing. New York, NY: Addison Wesley Longman, Inc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Specificity of Objectives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riginal Bloom’s Taxonomy – proposed to establish a standard vocabulary for indicating what an item was intended to measur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riginal group (Benjamin Bloom and colleagues) considered the framework a work in progres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Cognitive domain initially developed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Affective domain developed in 1964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Psychomotor domain developed in 1966 (Simpson, 1966 &amp; Harrow, 1972)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riginal group feared thoughts would freeze thought, stifling the development of new frameworks (p. XXVII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5" name="Footer Placeholder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Anderson, L. W. &amp; Krathwohl, D. R. (2001). A taxonomy for learning, teaching, and assessing. New York, NY: Addison Wesley Longman, Inc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6" name="Title 3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309" name="Footer Placeholder 2"/>
          <p:cNvSpPr/>
          <p:nvPr/>
        </p:nvSpPr>
        <p:spPr>
          <a:xfrm>
            <a:off x="2133720" y="6203880"/>
            <a:ext cx="46479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Adapted for South Dakota Use from Anderson, L. W. &amp; Krathwohl, D. R. (2001). A taxonomy for learning, teaching, and assessing. New York, NY: Addison Wesley Longman, Inc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9f9f9"/>
                </a:solidFill>
                <a:latin typeface="Constantia"/>
              </a:rPr>
              <a:t>Relationship of Global, Educational &amp; Instructional Objectives</a:t>
            </a:r>
            <a:endParaRPr b="0" lang="en-US" sz="3800" spc="-1" strike="noStrike">
              <a:solidFill>
                <a:srgbClr val="f9f9f9"/>
              </a:solidFill>
              <a:latin typeface="Constantia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85800" y="1397160"/>
          <a:ext cx="7696080" cy="460368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536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Level of Objec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Indicat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Standar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Sco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Bro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arr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ime Needed to Lear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One or More Yea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Weeks or Month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Hours or Day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urpose or Fun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rovide Vi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Design Curricul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repare Lesson Pla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Example of U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lan a multiyear curricul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lan Units of Instru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lan Daily Activities, Experiences, and Exerci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eminder – objectives describe ends (be able to, learn to) or the intended results; or intended outcomes; or intended chang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Constantia"/>
              </a:rPr>
              <a:t>NOT: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Instructional activities – means by which objectives are achieved – lead to the achievement of stated objectiv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Constantia"/>
              </a:rPr>
              <a:t>NOT: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Tests or assessments [p. 17]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3" name="Footer Placeholder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Anderson, L. W. &amp; Krathwohl, D. R. (2001). A taxonomy for learning, teaching, and assessing. New York, NY: Addison Wesley Longman, Inc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What Objectives are: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dicators – take a global or broader view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tandards – educational goals/objectiv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amples – instructional objectiv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6" name="Footer Placeholder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Anderson, L. W. &amp; Krathwohl, D. R. (2001). A taxonomy for learning, teaching, and assessing. New York, NY: Addison Wesley Longman, Inc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SD Standards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Thank you!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evision builds on prior work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mmittee comprised of David Krathwohl and Cognitive psychologists, curriculum theorists and instructional researchers, &amp; testing and assessment specialists (p. XXIX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8" name="Footer Placeholder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Anderson, L. W. &amp; Krathwohl, D. R. (2001). A taxonomy for learning, teaching, and assessing. New York, NY: Addison Wesley Longman, Inc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Title 3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bjectives – help us focus; indicate what we want students to lear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eaching is instructional &amp; reasoned ac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each for some purpose &amp; is judged by the writer to be worthwhil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easoned = what objectives are selecte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tentional – how to help students achieve (p. 3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1" name="Footer Placeholder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Anderson, L. W. &amp; Krathwohl, D. R. (2001). A taxonomy for learning, teaching, and assessing. New York, NY: Addison Wesley Longman, Inc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2" name="Title 3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Content Placeholder 4" descr=""/>
          <p:cNvPicPr/>
          <p:nvPr/>
        </p:nvPicPr>
        <p:blipFill>
          <a:blip r:embed="rId2"/>
          <a:stretch/>
        </p:blipFill>
        <p:spPr>
          <a:xfrm>
            <a:off x="384120" y="1450800"/>
            <a:ext cx="8375760" cy="3499200"/>
          </a:xfrm>
          <a:prstGeom prst="rect">
            <a:avLst/>
          </a:prstGeom>
          <a:ln w="0">
            <a:noFill/>
          </a:ln>
        </p:spPr>
      </p:pic>
      <p:sp>
        <p:nvSpPr>
          <p:cNvPr id="264" name="Footer Placeholder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Anderson, L. W. &amp; Krathwohl, D. R. (2001). A taxonomy for learning, teaching, and assessing. New York, NY: Addison Wesley Longman, Inc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5" name="Title 3" descr=""/>
          <p:cNvPicPr/>
          <p:nvPr/>
        </p:nvPicPr>
        <p:blipFill>
          <a:blip r:embed="rId3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ther terms =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Content Standard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Curriculum Standards (p. 3)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67" name="Footer Placeholder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Anderson, L. W. &amp; Krathwohl, D. R. (2001). A taxonomy for learning, teaching, and assessing. New York, NY: Addison Wesley Longman, Inc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8" name="Title 3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pecial framework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tegories lie along continuum; major organizing principl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**Classifying objectives**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tatement of an objective contains a verb and a nou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Verb defines cognitive proces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Noun defines knowledge expected to acquire or construct (p. 4)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0" name="Footer Placeholder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Anderson, L. W. &amp; Krathwohl, D. R. (2001). A taxonomy for learning, teaching, and assessing. New York, NY: Addison Wesley Longman, Inc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1" name="Title 3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s 2 dimensiona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nterrelationships as the Taxonomy tabl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ognitive Process Dimension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20280" indent="-2646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6 categories (column headings)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1" marL="620280" indent="-2646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Remember, Understand, Apply, Analyze, Evaluate, Create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1" marL="620280" indent="-2646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Build on each other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Knowledge Dimension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20280" indent="-2646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4 categories (row headings)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1" marL="620280" indent="-2646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Facts, Concepts, Process, Meta-cognition (Thinking about Thinking)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1" marL="620280" indent="-2646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From concrete to abstract (p. 5)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73" name="Footer Placeholder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Anderson, L. W. &amp; Krathwohl, D. R. (2001). A taxonomy for learning, teaching, and assessing. New York, NY: Addison Wesley Longman, Inc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4" name="Title 3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Most important organizing questions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What is important for students to learn in the limited school and classroom time available? (the learning question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How does one plan and deliver instruction that will result in high level learning for large numbers of students? (the instruction question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How does one select or design assessment instruments and procedures that provide accurate information about how well students are learning? (the assessment question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How does one ensure that the objectives, instruction, and assessment are consistent with one another? (the alignment question) [p. 6]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Footer Placeholder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Anderson, L. W. &amp; Krathwohl, D. R. (2001). A taxonomy for learning, teaching, and assessing. New York, NY: Addison Wesley Longman, Inc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7" name="Title 3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59608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21:55:44Z</dcterms:created>
  <dc:creator>D Wenzel</dc:creator>
  <dc:description/>
  <dc:language>en-US</dc:language>
  <cp:lastModifiedBy>depr14463</cp:lastModifiedBy>
  <dcterms:modified xsi:type="dcterms:W3CDTF">2010-10-14T20:12:18Z</dcterms:modified>
  <cp:revision>13</cp:revision>
  <dc:subject/>
  <dc:title>Revised Bloom’s Taxonomy</dc:title>
</cp:coreProperties>
</file>